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EBDDB-48E4-4C81-B015-BEE774D11D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may take 9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EDE0C-23B9-4DC0-8918-EA325010F6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not traditional  2) traditional  3) not traditional   4)  traditional  5) traditional  6)  traditional  7) traditional</a:t>
            </a: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04091-8E3E-405A-8B6B-F9678E13AF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484F7-78A5-4040-B6BF-8AA42AA0CF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Pants = North American English  b) British English   c)  British English  d)  North American English</a:t>
            </a: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0B8AC-0DE1-450F-8FCC-E6CD9B7AA2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ainee police women 2) India  3) training to join the police force</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B27EA-16EA-4A74-937A-ECE45BD0773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ue  2) False  3) True  4) True  5) True  5)  True 6) True  7) True  One option is to dictate the sentences and then  have  seven learners come up to the board  simultaneously and write one each on the board</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A9183-5F18-4DFD-A54E-3871A43CBB1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licit an example item for each list for the country you are teaching in</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9D723-A89E-48B3-BBB5-A439C6F992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option is to have learners work in pairs or groups. One learner reads out a random sentence from their lists and the partner or group decide if it is traditional or not in the learner’s country</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F51EE-75CA-433E-855A-1676CA8E1B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FF46D-69CE-45E6-BF44-AB0651BB1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1C76F-1D0A-4CEB-A943-1000EDEB2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513A4-A366-413D-AB73-032B87E54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2A529-AD03-4F2B-8E8B-60ACC0A7D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FB21A-3CD6-4027-848E-18AB4EE09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E1E35-F913-4129-A54D-E4C57A740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64097-391D-41C9-9763-85114A8FC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5F33C-C6D0-4D36-86B7-B6A5B02DC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9EB68-5A0C-4ACB-B2FB-F6B63E859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A66EA-049C-4A3B-9249-2CF1A0139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87F43-E455-4D02-8B4E-A375469B7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9C061-0F43-469D-9441-EC532E8060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507CA-9CE7-4F87-A4D1-C2A644B564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20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0" lang="en-GB" sz="6600" spc="-1" strike="noStrike">
                <a:solidFill>
                  <a:srgbClr val="c00000"/>
                </a:solidFill>
                <a:latin typeface="Calibri"/>
              </a:rPr>
              <a:t>Look who is wearing the pants!</a:t>
            </a:r>
            <a:br>
              <a:rPr sz="6600"/>
            </a:br>
            <a:br>
              <a:rPr sz="6600"/>
            </a:b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49" name="PlaceHolder 2"/>
          <p:cNvSpPr>
            <a:spLocks noGrp="1"/>
          </p:cNvSpPr>
          <p:nvPr>
            <p:ph type="subTitle"/>
          </p:nvPr>
        </p:nvSpPr>
        <p:spPr>
          <a:xfrm>
            <a:off x="539640" y="4797360"/>
            <a:ext cx="8064720" cy="1440000"/>
          </a:xfrm>
          <a:prstGeom prst="rect">
            <a:avLst/>
          </a:prstGeom>
          <a:noFill/>
          <a:ln w="0">
            <a:noFill/>
          </a:ln>
        </p:spPr>
        <p:txBody>
          <a:bodyPr anchor="t">
            <a:noAutofit/>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New Internationalist Easier English Ready Intermediate lesson</a:t>
            </a:r>
            <a:endParaRPr b="0" lang="en-US" sz="3700" spc="-1" strike="noStrike">
              <a:solidFill>
                <a:srgbClr val="000000"/>
              </a:solidFill>
              <a:latin typeface="Calibri"/>
            </a:endParaRPr>
          </a:p>
        </p:txBody>
      </p:sp>
      <p:pic>
        <p:nvPicPr>
          <p:cNvPr id="50" name="Picture 5" descr="new internationalist logo black on white.jpg"/>
          <p:cNvPicPr/>
          <p:nvPr/>
        </p:nvPicPr>
        <p:blipFill>
          <a:blip r:embed="rId1"/>
          <a:stretch/>
        </p:blipFill>
        <p:spPr>
          <a:xfrm>
            <a:off x="3132000" y="333360"/>
            <a:ext cx="4896000" cy="123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 of the following is traditional in India?</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wearing jean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greeting with hands together</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joining the police force</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wearing loose clothe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vegetarian food</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arranged marriage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thinking the cow is holy</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Who do you think they are, where and wh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2" descr="C:\Users\JohnS\Pictures\Indian police.jpg"/>
          <p:cNvPicPr/>
          <p:nvPr/>
        </p:nvPicPr>
        <p:blipFill>
          <a:blip r:embed="rId1"/>
          <a:stretch/>
        </p:blipFill>
        <p:spPr>
          <a:xfrm>
            <a:off x="539640" y="1576440"/>
            <a:ext cx="777744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80640"/>
            <a:ext cx="82296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 of these expressions is British English and which is North American English?</a:t>
            </a:r>
            <a:br>
              <a:rPr sz="4400"/>
            </a:br>
            <a:endParaRPr b="0" lang="en-US" sz="4400" spc="-1" strike="noStrike">
              <a:solidFill>
                <a:srgbClr val="000000"/>
              </a:solidFill>
              <a:latin typeface="Calibri"/>
            </a:endParaRPr>
          </a:p>
        </p:txBody>
      </p:sp>
      <p:sp>
        <p:nvSpPr>
          <p:cNvPr id="57" name=""/>
          <p:cNvSpPr txBox="1"/>
          <p:nvPr/>
        </p:nvSpPr>
        <p:spPr>
          <a:xfrm>
            <a:off x="457200" y="2492280"/>
            <a:ext cx="4402080" cy="363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100"/>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 </a:t>
            </a:r>
            <a:r>
              <a:rPr b="0" lang="en-GB" sz="4400" spc="-1" strike="noStrike">
                <a:solidFill>
                  <a:srgbClr val="c00000"/>
                </a:solidFill>
                <a:latin typeface="Calibri"/>
              </a:rPr>
              <a:t>pants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c) mobile phone</a:t>
            </a:r>
            <a:endParaRPr b="0" lang="en-US" sz="4400" spc="-1" strike="noStrike">
              <a:solidFill>
                <a:srgbClr val="000000"/>
              </a:solidFill>
              <a:latin typeface="Calibri"/>
            </a:endParaRPr>
          </a:p>
        </p:txBody>
      </p:sp>
      <p:sp>
        <p:nvSpPr>
          <p:cNvPr id="58" name=""/>
          <p:cNvSpPr txBox="1"/>
          <p:nvPr/>
        </p:nvSpPr>
        <p:spPr>
          <a:xfrm>
            <a:off x="4932000" y="2997000"/>
            <a:ext cx="3754440" cy="31287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b) trousers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d) cell phon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0" name="Picture 2" descr="C:\Users\JohnS\Pictures\Indian police.jpg"/>
          <p:cNvPicPr/>
          <p:nvPr/>
        </p:nvPicPr>
        <p:blipFill>
          <a:blip r:embed="rId1"/>
          <a:stretch/>
        </p:blipFill>
        <p:spPr>
          <a:xfrm>
            <a:off x="2771640" y="260280"/>
            <a:ext cx="3787920" cy="2376720"/>
          </a:xfrm>
          <a:prstGeom prst="rect">
            <a:avLst/>
          </a:prstGeom>
          <a:ln w="0">
            <a:noFill/>
          </a:ln>
        </p:spPr>
      </p:pic>
      <p:sp>
        <p:nvSpPr>
          <p:cNvPr id="61" name=""/>
          <p:cNvSpPr txBox="1"/>
          <p:nvPr/>
        </p:nvSpPr>
        <p:spPr>
          <a:xfrm>
            <a:off x="457200" y="1600200"/>
            <a:ext cx="8229600" cy="45259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Now read the text quickly and answer the question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1) Who are the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2) Which country are they i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3) Why are they there?</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Look_who_is_wearing_the_pa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68360" y="1484280"/>
            <a:ext cx="8229600" cy="4741920"/>
          </a:xfrm>
          <a:prstGeom prst="rect">
            <a:avLst/>
          </a:prstGeom>
          <a:noFill/>
          <a:ln w="0">
            <a:noFill/>
          </a:ln>
        </p:spPr>
        <p:txBody>
          <a:bodyPr anchor="t">
            <a:normAutofit/>
          </a:bodyPr>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are friend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s parents are happy for her to wear jean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s parents are happy for her to wear a police uniform.</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want to join the police force.</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want to be different from traditional Indian girl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Uniforms in India are usually seen as negative.</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The reporter thinks Anwara and Saheli  are strong.</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Read again and decide if the sentences are true or false</a:t>
            </a:r>
            <a:r>
              <a:rPr b="0" lang="en-GB" sz="4400" spc="-1" strike="noStrike">
                <a:solidFill>
                  <a:srgbClr val="c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Lis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Make a list of five things which people think are traditional in you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Make another list of five things which people think are not traditional in you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haring Lis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Now tell as many people as possible about your two lis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Now read the original article:</a:t>
            </a:r>
            <a:br>
              <a:rPr sz="4400"/>
            </a:b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blog/2013/08/14/look-whos-wearing-the-pa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8T13:41:19Z</dcterms:created>
  <dc:creator>IT Technical Support</dc:creator>
  <dc:description/>
  <dc:language>en-US</dc:language>
  <cp:lastModifiedBy>Linda Ruas</cp:lastModifiedBy>
  <dcterms:modified xsi:type="dcterms:W3CDTF">2013-08-15T18:43:32Z</dcterms:modified>
  <cp:revision>56</cp:revision>
  <dc:subject/>
  <dc:title>Protecting the planet from climate-change</dc:title>
</cp:coreProperties>
</file>